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04C-196F-4DA2-836E-465E24EA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941-8B16-4FD8-9A3B-208EEEBD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DFB-F58D-4091-AD21-1FEB38B8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6F5-B250-4F60-B96F-CF754F14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828-A437-4D5F-B59D-11B1B490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47F-CBBF-41CE-9CC8-D0F55F6B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C29-502B-446C-8B6C-4878FD3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BBE-B897-42C1-9E17-A68188C0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8F8-494C-48C4-B5BD-38054670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403-E545-4FB1-A4A3-26B15FE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0B8-4D2E-4C0C-BC1C-0DB178C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A25-9636-4B40-8416-946496F2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5F39-7C29-4610-8B30-6A098F6F1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eorological Services Department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mbabw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Kap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5 August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Synoptic &amp; Climate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5" name="Picture 5" descr="C:\Users\WMO Office\Documents\WIGOS ZIMBABWE\MSD Synoptic &amp; Climate Stations.jpg"/>
          <p:cNvPicPr/>
          <p:nvPr/>
        </p:nvPicPr>
        <p:blipFill>
          <a:blip r:embed="rId1"/>
          <a:srcRect l="14874" t="0" r="19891" b="0"/>
          <a:stretch/>
        </p:blipFill>
        <p:spPr>
          <a:xfrm>
            <a:off x="1295280" y="1447920"/>
            <a:ext cx="6019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Automatic Weather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8" name="Picture 2" descr="C:\Users\WMO Office\Documents\WIGOS ZIMBABWE\MSD AWS.jpg"/>
          <p:cNvPicPr/>
          <p:nvPr/>
        </p:nvPicPr>
        <p:blipFill>
          <a:blip r:embed="rId1"/>
          <a:srcRect l="14874" t="0" r="21326" b="0"/>
          <a:stretch/>
        </p:blipFill>
        <p:spPr>
          <a:xfrm>
            <a:off x="1295280" y="190512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Rainfall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1" name="Picture 2" descr="C:\Users\WMO Office\Documents\WIGOS ZIMBABWE\Rainfall Stations.jpg"/>
          <p:cNvPicPr/>
          <p:nvPr/>
        </p:nvPicPr>
        <p:blipFill>
          <a:blip r:embed="rId1"/>
          <a:srcRect l="14158" t="0" r="19891" b="0"/>
          <a:stretch/>
        </p:blipFill>
        <p:spPr>
          <a:xfrm>
            <a:off x="1523880" y="1905120"/>
            <a:ext cx="6019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NWA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4" name="Picture 2" descr="C:\Users\WMO Office\Documents\WIGOS ZIMBABWE\ZINWA STATIONS.jpg"/>
          <p:cNvPicPr/>
          <p:nvPr/>
        </p:nvPicPr>
        <p:blipFill>
          <a:blip r:embed="rId1"/>
          <a:srcRect l="12007" t="0" r="21326" b="0"/>
          <a:stretch/>
        </p:blipFill>
        <p:spPr>
          <a:xfrm>
            <a:off x="1523880" y="190512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MNAT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7525" t="13543" r="15079" b="6250"/>
          <a:stretch/>
        </p:blipFill>
        <p:spPr>
          <a:xfrm>
            <a:off x="1295280" y="16002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OXFAM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0" name="Picture 2" descr="C:\Users\WMO Office\Documents\WIGOS ZIMBABWE\Oxfam Stations.jpg"/>
          <p:cNvPicPr/>
          <p:nvPr/>
        </p:nvPicPr>
        <p:blipFill>
          <a:blip r:embed="rId1"/>
          <a:srcRect l="12007" t="0" r="19891" b="0"/>
          <a:stretch/>
        </p:blipFill>
        <p:spPr>
          <a:xfrm>
            <a:off x="1447920" y="1905120"/>
            <a:ext cx="62481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Network of Network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25184" t="12500" r="25037" b="12500"/>
          <a:stretch/>
        </p:blipFill>
        <p:spPr>
          <a:xfrm>
            <a:off x="1295280" y="1143000"/>
            <a:ext cx="647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7 Manual Stations (Synoptic and Clim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 Upper Air Station (4 requir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 Stations on G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 MSD Automatic Weather S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1 Automatic Weather Stations with Partn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9 Automatic Weather Stations against 150 requir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250 rainfall sta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3 of the 47 Stations on the OSCAR/Surface Platfo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09:27:45Z</dcterms:created>
  <dc:creator>AWOS</dc:creator>
  <dc:description/>
  <dc:language>en-US</dc:language>
  <cp:lastModifiedBy>AWOS</cp:lastModifiedBy>
  <dcterms:modified xsi:type="dcterms:W3CDTF">2018-08-15T09:51:05Z</dcterms:modified>
  <cp:revision>5</cp:revision>
  <dc:subject/>
  <dc:title>Meteorological Services Department   Zimbabwe</dc:title>
</cp:coreProperties>
</file>